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12D7-7C5D-4BB2-A03D-96BEA0C1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99E7-281B-49B2-B935-BB6B84AB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638-84AF-4288-945A-237A43A8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61C-1527-41F5-99DB-C20556D2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6271E-7DD4-47F0-A31E-8EC52A23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0CE9B-04F5-478C-90D2-EC867BA1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04400-A131-4875-9ADB-EBD82872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2176B-ABC2-4697-9AF2-74D8F94E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37D4B-22CF-42A2-A572-B0DBE132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067B7-883E-455B-869B-5E635E76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73BD8-952A-4F5D-9BFA-CEF0A315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4C7-A515-4248-B03F-2E48D8DD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59391-EBC6-4BC8-8644-42D26D55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CCBE0-2346-4C5A-8BEE-1D7D4A3B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DAE41-947B-4F15-8A00-806DC131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0BC16-96BF-4BAE-A73D-A52B47F9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D0129-402E-4ADB-8B85-5BEE3AD9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411-5991-4C93-897C-65A3876F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82A-AEBD-4E95-80E3-CF82BFAC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88C3-A892-4199-A894-494D8ED4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BBE8-A218-4BAF-885D-4A9C244E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1C3-558A-4251-82AE-7E5F944D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1374-2E0A-423A-9EE8-2F3F12E3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796-2C69-4EBF-81A2-F3704F7A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9A92-0856-4A7F-89E7-3F90286FCCFE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4A02-EB61-4D83-855F-D28544C2C96A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http://delivery.kundelink.dk/kunder/efficiensea/index.php" TargetMode="External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NM 19 – Rapporteur Report M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evelopment of e-Navigation within AtoN Authorities (M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852480" y="5729760"/>
            <a:ext cx="74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</a:rPr>
              <a:t>Gerry Brine - Manager Aids to Naviga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762120" indent="-76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6" name="Group 5"/>
          <p:cNvGrpSpPr/>
          <p:nvPr/>
        </p:nvGrpSpPr>
        <p:grpSpPr>
          <a:xfrm>
            <a:off x="1619280" y="2708280"/>
            <a:ext cx="2376360" cy="1728360"/>
            <a:chOff x="1619280" y="2708280"/>
            <a:chExt cx="2376360" cy="1728360"/>
          </a:xfrm>
        </p:grpSpPr>
        <p:sp>
          <p:nvSpPr>
            <p:cNvPr id="87" name="Text Box 6"/>
            <p:cNvSpPr/>
            <p:nvPr/>
          </p:nvSpPr>
          <p:spPr>
            <a:xfrm>
              <a:off x="1619280" y="3776040"/>
              <a:ext cx="2376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88" name="Object 7"/>
            <p:cNvGraphicFramePr/>
            <p:nvPr/>
          </p:nvGraphicFramePr>
          <p:xfrm>
            <a:off x="1909440" y="2708280"/>
            <a:ext cx="1387080" cy="113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9440" y="2708280"/>
                      <a:ext cx="1387080" cy="113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" name="Rectangle 8"/>
          <p:cNvSpPr/>
          <p:nvPr/>
        </p:nvSpPr>
        <p:spPr>
          <a:xfrm>
            <a:off x="4356000" y="270828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Object 9"/>
          <p:cNvGraphicFramePr/>
          <p:nvPr/>
        </p:nvGraphicFramePr>
        <p:xfrm>
          <a:off x="3995640" y="2924280"/>
          <a:ext cx="1352520" cy="11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292428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Oval 10"/>
          <p:cNvSpPr/>
          <p:nvPr/>
        </p:nvSpPr>
        <p:spPr>
          <a:xfrm>
            <a:off x="6084720" y="2708280"/>
            <a:ext cx="1989360" cy="1989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Object 11"/>
          <p:cNvGraphicFramePr/>
          <p:nvPr/>
        </p:nvGraphicFramePr>
        <p:xfrm>
          <a:off x="6300720" y="2997360"/>
          <a:ext cx="1455840" cy="164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00720" y="299736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12"/>
          <p:cNvSpPr/>
          <p:nvPr/>
        </p:nvSpPr>
        <p:spPr>
          <a:xfrm>
            <a:off x="1476360" y="4365720"/>
            <a:ext cx="2158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084720" y="479736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0" y="6461280"/>
            <a:ext cx="84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ffffff"/>
                </a:solidFill>
                <a:latin typeface="Tahoma"/>
              </a:rPr>
              <a:t>Source: IALA e-Nav Committee Information Paper on the draft</a:t>
            </a:r>
            <a:br>
              <a:rPr sz="800"/>
            </a:br>
            <a:r>
              <a:rPr b="0" lang="en-AU" sz="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697880" cy="72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Relevant e-Nav 12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gressed development of “platform suite (or ‘seven pillars of e-navigation)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193760" indent="-45072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web-based tool to assist in promoting the e-navigation to stakehold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gressed work on the structure of Maritime Services Portfol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ormation paper on the architecture for the provision of e-navigation services as seen from ash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nalised procedures for the management of the IALA Domain under the IHO GI (S-100) Regi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697880" cy="907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e-Nav developments in IALA member countries - Can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9280" y="1699920"/>
            <a:ext cx="84250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-Navigation Vision and Strategy approv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93760" indent="-4507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Following client consultations, user-need studies and completion of a required service matrix which started in 2009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end 2012 expect to have a National e-Navigation webs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93760" indent="-450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his site will eventually provide an information and services portal for client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9120" y="115920"/>
            <a:ext cx="7699320" cy="907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e-Nav developments in IALA member countries – Canada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851280" y="2657160"/>
            <a:ext cx="4897440" cy="32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 accurate, timely, up to date and shared information to mariners and shore author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ater efficiency and security in maritime transpo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d protection of the marine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39640" y="2471760"/>
            <a:ext cx="2808360" cy="3632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75088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697880" cy="907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e-Nav developments in IALA member countries - Can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9280" y="1699920"/>
            <a:ext cx="84250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beds are one of the keys to progressing implementation of e-navig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t Lawrence and Fraser Rivers electronic transfer of bathymetric, wave heights and  current data and maritime safety information is occur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93760" indent="-4507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nformation delivery to pilots via Portable Pilot Un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1937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699320" cy="907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e-Nav developments in IALA member countries - U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 Lighthouse Authorities of the UK and Ireland (GLA) ACCSEAS pro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obust PNT in support of e-Navig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193760" indent="-4507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mplementation of Differential eLoran reference stations continues with Dover being completed and 5 more stations on the East Coast of the UK plan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dar positioning trials plan has been completed and provided to radar and racon manufacturers for com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1937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6266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e-Nav developments in Austra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sability workshop to be held in March 20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MO NAV 58 has noted that </a:t>
            </a:r>
            <a:r>
              <a:rPr b="0" i="1" lang="ja-JP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“</a:t>
            </a:r>
            <a:r>
              <a:rPr b="0" i="1" lang="en-AU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…interested parties were considering organizing or requesting the organization of a workshop to progress the discussions on usability evaluation of navigational equipment, software quality assurance and human element issues</a:t>
            </a:r>
            <a:r>
              <a:rPr b="0" i="1" lang="ja-JP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”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(NAV 58 repor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-Navigation implementation plan for Australia being develo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MSA trials (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real, synthetic and virtual AtoN on buoys and fixed structures) continu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3603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valuation report will be available in early 2013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"/>
          <p:cNvPicPr/>
          <p:nvPr/>
        </p:nvPicPr>
        <p:blipFill>
          <a:blip r:embed="rId1"/>
          <a:stretch/>
        </p:blipFill>
        <p:spPr>
          <a:xfrm>
            <a:off x="6203880" y="1844640"/>
            <a:ext cx="636480" cy="6476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426960" y="4806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450720" indent="-450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Upcoming events featuring e-Navigation</a:t>
            </a:r>
            <a:r>
              <a:rPr b="0" lang="ja-JP" sz="3200" spc="-1" strike="noStrike">
                <a:solidFill>
                  <a:srgbClr val="ffff00"/>
                </a:solidFill>
                <a:latin typeface="Tahoma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116000" y="4942080"/>
            <a:ext cx="734364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762120" indent="-76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762120" indent="-76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ahoma"/>
              </a:rPr>
              <a:t>Note: Jan 2012 Efficiensea Conference report can be found at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762120" indent="-7621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delivery.kundelink.dk/kunder/efficiensea/index.php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20" descr=""/>
          <p:cNvPicPr/>
          <p:nvPr/>
        </p:nvPicPr>
        <p:blipFill>
          <a:blip r:embed="rId3"/>
          <a:stretch/>
        </p:blipFill>
        <p:spPr>
          <a:xfrm>
            <a:off x="6840360" y="1844640"/>
            <a:ext cx="1873440" cy="6444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539640" y="1338120"/>
            <a:ext cx="5113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ficiensea “e-Navigation Underway” Conference Jan 20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ability of Navigation Equipment.  Workshop 5-6 March 2013 in Kingscliff, NSW, Australi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SA Navigation Symposium, Darwin 29-31 July 20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23" descr="http://www.e-navigation.net/uploads/images/Pearl.JPG"/>
          <p:cNvPicPr/>
          <p:nvPr/>
        </p:nvPicPr>
        <p:blipFill>
          <a:blip r:embed="rId4"/>
          <a:stretch/>
        </p:blipFill>
        <p:spPr>
          <a:xfrm>
            <a:off x="6203880" y="2489040"/>
            <a:ext cx="25034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1916280"/>
            <a:ext cx="7843680" cy="151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Tahoma"/>
              </a:rPr>
              <a:t>Thank you for your attention</a:t>
            </a:r>
            <a:br>
              <a:rPr sz="2800"/>
            </a:br>
            <a:br>
              <a:rPr sz="2800"/>
            </a:br>
            <a:r>
              <a:rPr b="1" lang="en-AU" sz="2800" spc="-1" strike="noStrike">
                <a:solidFill>
                  <a:srgbClr val="ffff00"/>
                </a:solidFill>
                <a:latin typeface="Tahoma"/>
              </a:rPr>
              <a:t>Any ques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755280" y="2421000"/>
            <a:ext cx="799308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/>
  <dcterms:modified xsi:type="dcterms:W3CDTF">2012-11-12T06:04:52Z</dcterms:modified>
  <cp:revision>134</cp:revision>
  <dc:subject/>
  <dc:title>Slide 1</dc:title>
</cp:coreProperties>
</file>